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E909-88C9-4C15-9A44-3AD13DE1E023}" type="datetime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64E2-0F58-493B-9F85-E9DA8C4B59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825D-281F-481B-B408-11C4474143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038-2287-439D-B7FD-CC9A9741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29D-3528-4C56-8703-915CB0F0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384-78CD-45CD-91F9-15963155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978-929E-4628-A8A2-7F7A4CA2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027-A639-4C11-82B4-9F65312C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47C-347A-425A-93F0-B4ED7E31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1D5-CF80-4147-8B91-94930E46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8AC-9EEC-4C5F-82EE-5D2C1504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A35-915A-4A09-B0C9-91C3A964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E3C-44E6-4958-A6B4-41B36E20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842-BEE1-4539-A7C7-708B0C0E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5C6-B4CC-489B-8644-5F40833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3EE0-3426-4667-9574-30C09E50ED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cientific Visualization Module 6</a:t>
            </a:r>
            <a:br>
              <a:rPr sz="2300"/>
            </a:br>
            <a:r>
              <a:rPr b="1" i="1" lang="en-US" sz="2300" spc="-1" strike="noStrike">
                <a:solidFill>
                  <a:srgbClr val="7575d1"/>
                </a:solidFill>
                <a:latin typeface="Trebuchet MS"/>
              </a:rPr>
              <a:t>Volumetric Algorithm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2894400" y="526896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dr. Alexandru (Alex) Te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2451600" y="5800680"/>
            <a:ext cx="423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Mathematics and 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Groningen, 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024"/>
          <p:cNvGraphicFramePr/>
          <p:nvPr/>
        </p:nvGraphicFramePr>
        <p:xfrm>
          <a:off x="4952880" y="3629160"/>
          <a:ext cx="1103400" cy="121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3629160"/>
                    <a:ext cx="1103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025"/>
          <p:cNvGraphicFramePr/>
          <p:nvPr/>
        </p:nvGraphicFramePr>
        <p:xfrm>
          <a:off x="2743200" y="3629160"/>
          <a:ext cx="2131920" cy="14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Object 10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629160"/>
                    <a:ext cx="21319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026"/>
          <p:cNvGraphicFramePr/>
          <p:nvPr/>
        </p:nvGraphicFramePr>
        <p:xfrm>
          <a:off x="5334120" y="2104920"/>
          <a:ext cx="1458720" cy="146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Object 10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2104920"/>
                    <a:ext cx="14587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027"/>
          <p:cNvGraphicFramePr/>
          <p:nvPr/>
        </p:nvGraphicFramePr>
        <p:xfrm>
          <a:off x="3809880" y="2104920"/>
          <a:ext cx="1446480" cy="1463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" name="Object 10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9880" y="2104920"/>
                    <a:ext cx="1446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1028"/>
          <p:cNvGraphicFramePr/>
          <p:nvPr/>
        </p:nvGraphicFramePr>
        <p:xfrm>
          <a:off x="2209680" y="2104920"/>
          <a:ext cx="1524240" cy="1447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" name="Object 10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2104920"/>
                    <a:ext cx="15242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7569360" y="64022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228600" y="63388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6129720" y="64468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-194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Distance to value functio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5440" y="380880"/>
            <a:ext cx="674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Third example of r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 distance along ray until a specific scalar 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ful to emphasize depth where some specific tissue is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554040" y="1278000"/>
            <a:ext cx="2705040" cy="799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152280" y="2666880"/>
            <a:ext cx="3251160" cy="311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4"/>
          <a:stretch/>
        </p:blipFill>
        <p:spPr>
          <a:xfrm>
            <a:off x="3505320" y="2781360"/>
            <a:ext cx="3111480" cy="2781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6740640" y="3048120"/>
            <a:ext cx="215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Human head 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= low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te = high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914400" y="5791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distance to value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191120" y="5791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distance to value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-194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Isosurface functio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57480" y="696960"/>
            <a:ext cx="719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Fourth example of r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 whether a given iso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ists along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s same result as marching cubes, but with a higher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797280" cy="660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5905440" cy="311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2"/>
          <p:cNvSpPr/>
          <p:nvPr/>
        </p:nvSpPr>
        <p:spPr>
          <a:xfrm>
            <a:off x="1447920" y="59436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iso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(marching cub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352680" y="59436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iso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(software ray ca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562720" y="59436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iso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(hardware ray ca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-194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Composite functio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76560" y="696960"/>
            <a:ext cx="8519400" cy="73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Fifth example of r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 a color at each point along the ray (apply transfer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end (compose) all colors to get the final pixel color (ray function=alpha blen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transfer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ntrols color+transparency of all material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ray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lends together all material colors+transparencies along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owerful (but most computationally expensive) r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huge range of effects (depending on type of transfer fun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ing ‘good’ transfer functions is however non-tri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8"/>
          <p:cNvCxnSpPr/>
          <p:nvPr/>
        </p:nvCxnSpPr>
        <p:spPr>
          <a:xfrm flipH="1" flipV="1">
            <a:off x="1447200" y="2590200"/>
            <a:ext cx="686520" cy="99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2" name="Rectangle 4"/>
          <p:cNvSpPr/>
          <p:nvPr/>
        </p:nvSpPr>
        <p:spPr>
          <a:xfrm>
            <a:off x="2168280" y="3505320"/>
            <a:ext cx="645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ray function (blends all colors produced by transfer function along r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9"/>
              <p:cNvSpPr txBox="1"/>
              <p:nvPr/>
            </p:nvSpPr>
            <p:spPr>
              <a:xfrm>
                <a:off x="654120" y="2286000"/>
                <a:ext cx="30607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4" name="Straight Arrow Connector 13"/>
          <p:cNvCxnSpPr/>
          <p:nvPr/>
        </p:nvCxnSpPr>
        <p:spPr>
          <a:xfrm flipH="1" flipV="1">
            <a:off x="2123640" y="2590200"/>
            <a:ext cx="54360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5" name="Rectangle 4"/>
          <p:cNvSpPr/>
          <p:nvPr/>
        </p:nvSpPr>
        <p:spPr>
          <a:xfrm>
            <a:off x="2690640" y="3124080"/>
            <a:ext cx="44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transfer function (applied to all pixels along r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-194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Volumetric shad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60720" y="838080"/>
            <a:ext cx="6922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Sh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required if we compute e.g. isosu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can also be useful for composite r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ead of simply using the colo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e the shaded colors (see Chapter 2, Phong ligh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How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ing coefficien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light vect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user sets them as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rface norm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compute from gradient of scala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we did the same for isosurfaces, see Module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7569360" y="64022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228600" y="63388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6129720" y="64468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159120" y="639612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575d1"/>
                </a:solidFill>
                <a:latin typeface="Arial"/>
              </a:rPr>
              <a:t>For full details, see Sec.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507960" y="2563920"/>
            <a:ext cx="6578640" cy="419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2209680" y="4267080"/>
            <a:ext cx="3276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-194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Volumetric shad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35440" y="609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049800" cy="3276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"/>
          <p:cNvPicPr/>
          <p:nvPr/>
        </p:nvPicPr>
        <p:blipFill>
          <a:blip r:embed="rId2"/>
          <a:stretch/>
        </p:blipFill>
        <p:spPr>
          <a:xfrm>
            <a:off x="7569360" y="647856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0"/>
          <p:cNvSpPr/>
          <p:nvPr/>
        </p:nvSpPr>
        <p:spPr>
          <a:xfrm>
            <a:off x="228600" y="641520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6129720" y="652320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1523880" y="4648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no sh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505320" y="4648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diffuse ligh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5410080" y="46483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diffuse and specular</a:t>
            </a:r>
            <a:br>
              <a:rPr sz="1600"/>
            </a:b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ligh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04920" y="518148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Sh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ves very good cues of depth and shap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quite cheap and simple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Transfer function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51920" y="838080"/>
            <a:ext cx="8947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Extremely powerful modeling tool (mainly when using composite ray fun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four function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color and transparency to emphasize desired material properties (e.g. tissue 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any ray function described so f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6553080" cy="4278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1"/>
          <p:cNvSpPr/>
          <p:nvPr/>
        </p:nvSpPr>
        <p:spPr>
          <a:xfrm>
            <a:off x="6995160" y="2438280"/>
            <a:ext cx="1958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Human head 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hasize 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also mus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Transfer function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270720" y="762120"/>
            <a:ext cx="66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ume rendering can be used to visualize also 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vector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315200" cy="3782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2090520" y="5029200"/>
            <a:ext cx="4898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  <a:ea typeface="Arial"/>
              </a:rPr>
              <a:t>Volume rendering of fluid flow vector field magn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= slow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een = more rapid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ue = fastest f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  <a:ea typeface="Arial"/>
              </a:rPr>
              <a:t>Question: why is the blue hard to s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Transfer function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3" name="Picture 11" descr=""/>
          <p:cNvPicPr/>
          <p:nvPr/>
        </p:nvPicPr>
        <p:blipFill>
          <a:blip r:embed="rId1"/>
          <a:stretch/>
        </p:blipFill>
        <p:spPr>
          <a:xfrm>
            <a:off x="7569360" y="647856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6"/>
          <p:cNvSpPr/>
          <p:nvPr/>
        </p:nvSpPr>
        <p:spPr>
          <a:xfrm>
            <a:off x="228600" y="641520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6129720" y="652320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263520" y="838080"/>
            <a:ext cx="86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Further examples of (artistic) volume re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738680" cy="4991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5648760" y="1447920"/>
            <a:ext cx="27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 engine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sai tree (scan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Transfer function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263520" y="838080"/>
            <a:ext cx="86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…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and some extreme examples of volume re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5124600" y="1643040"/>
            <a:ext cx="3909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Volume rendering of human MRI datase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ding: mimics natural ligh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drop added for extra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utiful resul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not directly usable by e.g. clinic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"/>
          <p:cNvPicPr/>
          <p:nvPr/>
        </p:nvPicPr>
        <p:blipFill>
          <a:blip r:embed="rId2"/>
          <a:stretch/>
        </p:blipFill>
        <p:spPr>
          <a:xfrm>
            <a:off x="7569360" y="647856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9"/>
          <p:cNvSpPr/>
          <p:nvPr/>
        </p:nvSpPr>
        <p:spPr>
          <a:xfrm>
            <a:off x="228600" y="641520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6129720" y="652320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Implementation issu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263520" y="838080"/>
            <a:ext cx="86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Sampling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all the ray parame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need to sample along the ray (e.g. integrate, compute min/max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small should we take the sampling ste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9"/>
              <p:cNvSpPr txBox="1"/>
              <p:nvPr/>
            </p:nvSpPr>
            <p:spPr>
              <a:xfrm>
                <a:off x="4041720" y="1122480"/>
                <a:ext cx="2124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9"/>
              <p:cNvSpPr txBox="1"/>
              <p:nvPr/>
            </p:nvSpPr>
            <p:spPr>
              <a:xfrm>
                <a:off x="6337440" y="1147680"/>
                <a:ext cx="9619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0,1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4733640" cy="48006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5266440" y="2133720"/>
            <a:ext cx="3720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Human head CT, four different </a:t>
            </a:r>
            <a:r>
              <a:rPr b="0" lang="en-US" sz="1600" spc="-1" strike="noStrike">
                <a:solidFill>
                  <a:srgbClr val="7575d1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more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smal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low ren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Practical guid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ever exceed a voxel siz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therwise we skip voxels wh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versing the ray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5334120" y="5486400"/>
            <a:ext cx="28954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Volume visualization (Chapter 10)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28600" y="114300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buClr>
                <a:srgbClr val="7575d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575d1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see through 3D scalar volum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575d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575d1"/>
                </a:solidFill>
                <a:latin typeface="Arial"/>
              </a:rPr>
              <a:t>Methods an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 function (MIP, average intensity, distance to value, isosu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os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metric sh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575d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575d1"/>
                </a:solidFill>
                <a:latin typeface="Arial"/>
              </a:rPr>
              <a:t>Advanced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ing and 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ification and interpolatio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anc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ummary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312840" y="380880"/>
            <a:ext cx="7591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Volume visualization (book Chapter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classical scalar visualization to ‘see through’ 3D vol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 functions and transf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es highly realistic, easy to interpret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quite some computational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be easily accelerated using GPUs (e.g. pixel shaders, C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transfer function design: critical, application-dependent,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Thank you for your intere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otivatio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9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28600" y="91440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575d1"/>
                </a:solidFill>
                <a:latin typeface="Arial"/>
              </a:rPr>
              <a:t>Scalar volume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575d1"/>
                </a:solidFill>
                <a:latin typeface="Arial"/>
              </a:rPr>
              <a:t>How to visualize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701028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342800" y="4789440"/>
            <a:ext cx="225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direct color mapping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only outer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755160" y="4789440"/>
            <a:ext cx="203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cing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etails on s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nfo outside s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238800" y="4800600"/>
            <a:ext cx="230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contouring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etails on con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nfo outside con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589760" y="6031080"/>
            <a:ext cx="57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575d1"/>
                </a:solidFill>
                <a:latin typeface="Arial"/>
              </a:rPr>
              <a:t>How to visualize this so we see through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7631280" y="6461280"/>
            <a:ext cx="1238040" cy="344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28600" y="6381720"/>
            <a:ext cx="8686800" cy="4284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6129720" y="65008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-100080"/>
            <a:ext cx="88390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eeing through a volum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28600" y="914400"/>
            <a:ext cx="8915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575d1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known techniques (slices and cont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575d1"/>
                </a:solidFill>
                <a:latin typeface="Arial"/>
              </a:rPr>
              <a:t>First 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 several contour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several valu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arency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rtional to scalar valu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2171880" y="2895480"/>
            <a:ext cx="514332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6305760" y="3581280"/>
            <a:ext cx="2558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 start seeing a little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rough the volum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this won’t work fo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o many contours (</a:t>
            </a:r>
            <a:r>
              <a:rPr b="1" lang="en-GB" sz="1600" spc="-1" strike="noStrike">
                <a:solidFill>
                  <a:srgbClr val="7575d1"/>
                </a:solidFill>
                <a:latin typeface="Arial"/>
              </a:rPr>
              <a:t>why?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7631280" y="6461280"/>
            <a:ext cx="1238040" cy="344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28600" y="6381720"/>
            <a:ext cx="8686800" cy="4284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6129720" y="65008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100080"/>
            <a:ext cx="88390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eeing through a volum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8600" y="914400"/>
            <a:ext cx="8915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575d1"/>
                </a:solidFill>
                <a:latin typeface="Arial"/>
              </a:rPr>
              <a:t>Second 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 several parallel slic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arency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rsely proportional to number of sl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9"/>
              <p:cNvSpPr txBox="1"/>
              <p:nvPr/>
            </p:nvSpPr>
            <p:spPr>
              <a:xfrm>
                <a:off x="6699240" y="1488960"/>
                <a:ext cx="844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3"/>
          <p:cNvSpPr/>
          <p:nvPr/>
        </p:nvSpPr>
        <p:spPr>
          <a:xfrm>
            <a:off x="1391400" y="5342040"/>
            <a:ext cx="253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axis-aligned sl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OK if we view volum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ross slicing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4581360" y="5334120"/>
            <a:ext cx="371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view direction-aligned sl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viewing direction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reslice when changing view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Volume rendering basic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68580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575d1"/>
                </a:solidFill>
                <a:latin typeface="Arial"/>
              </a:rPr>
              <a:t>Main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sider a scalar signa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be drawn on the screen imag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pixel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ct a ra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rthogonal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ssing through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 intersection point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res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s function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o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twee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838080" y="3071880"/>
            <a:ext cx="3988080" cy="3176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5626440" y="342900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Arial"/>
              </a:rPr>
              <a:t>1. Parameterize 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5623560" y="4538520"/>
            <a:ext cx="23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Arial"/>
              </a:rPr>
              <a:t>1. Compute pixel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9"/>
              <p:cNvSpPr txBox="1"/>
              <p:nvPr/>
            </p:nvSpPr>
            <p:spPr>
              <a:xfrm>
                <a:off x="5711760" y="3809880"/>
                <a:ext cx="2168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9"/>
              <p:cNvSpPr txBox="1"/>
              <p:nvPr/>
            </p:nvSpPr>
            <p:spPr>
              <a:xfrm>
                <a:off x="8029440" y="3836880"/>
                <a:ext cx="9622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Oval 7"/>
          <p:cNvSpPr/>
          <p:nvPr/>
        </p:nvSpPr>
        <p:spPr>
          <a:xfrm>
            <a:off x="6813720" y="4908600"/>
            <a:ext cx="196560" cy="304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9"/>
          <p:cNvCxnSpPr/>
          <p:nvPr/>
        </p:nvCxnSpPr>
        <p:spPr>
          <a:xfrm flipH="1" flipV="1">
            <a:off x="6876720" y="5257440"/>
            <a:ext cx="591120" cy="381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7" name="Rectangle 4"/>
          <p:cNvSpPr/>
          <p:nvPr/>
        </p:nvSpPr>
        <p:spPr>
          <a:xfrm>
            <a:off x="7449120" y="5486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ray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9"/>
              <p:cNvSpPr txBox="1"/>
              <p:nvPr/>
            </p:nvSpPr>
            <p:spPr>
              <a:xfrm>
                <a:off x="5811840" y="4898880"/>
                <a:ext cx="187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29"/>
              <p:cNvSpPr txBox="1"/>
              <p:nvPr/>
            </p:nvSpPr>
            <p:spPr>
              <a:xfrm>
                <a:off x="8077320" y="4876920"/>
                <a:ext cx="9619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Oval 18"/>
          <p:cNvSpPr/>
          <p:nvPr/>
        </p:nvSpPr>
        <p:spPr>
          <a:xfrm>
            <a:off x="6529320" y="4932360"/>
            <a:ext cx="222480" cy="304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20"/>
          <p:cNvCxnSpPr>
            <a:endCxn id="110" idx="4"/>
          </p:cNvCxnSpPr>
          <p:nvPr/>
        </p:nvCxnSpPr>
        <p:spPr>
          <a:xfrm flipV="1">
            <a:off x="6477120" y="5236560"/>
            <a:ext cx="164160" cy="554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Rectangle 4"/>
          <p:cNvSpPr/>
          <p:nvPr/>
        </p:nvSpPr>
        <p:spPr>
          <a:xfrm>
            <a:off x="5669280" y="571500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Volume rendering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53028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28600" y="679320"/>
            <a:ext cx="8686800" cy="57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r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y function ’aggregates’ all scalar values along a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, define a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oncept as color mapping (see Module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ra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ays how to combine all scalar values along a ray into a single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transfer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ays how to map a single scalar value to a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 of computing all rays for an imag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alled </a:t>
            </a: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ray 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9"/>
              <p:cNvSpPr txBox="1"/>
              <p:nvPr/>
            </p:nvSpPr>
            <p:spPr>
              <a:xfrm>
                <a:off x="2971800" y="685800"/>
                <a:ext cx="2639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Oval 11"/>
          <p:cNvSpPr/>
          <p:nvPr/>
        </p:nvSpPr>
        <p:spPr>
          <a:xfrm>
            <a:off x="3405240" y="662040"/>
            <a:ext cx="1547640" cy="409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2"/>
          <p:cNvCxnSpPr/>
          <p:nvPr/>
        </p:nvCxnSpPr>
        <p:spPr>
          <a:xfrm flipV="1">
            <a:off x="3487680" y="1050120"/>
            <a:ext cx="246960" cy="554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Rectangle 4"/>
          <p:cNvSpPr/>
          <p:nvPr/>
        </p:nvSpPr>
        <p:spPr>
          <a:xfrm>
            <a:off x="2700000" y="157464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all scalar values along 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5257800" y="685800"/>
            <a:ext cx="380880" cy="304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16"/>
          <p:cNvCxnSpPr/>
          <p:nvPr/>
        </p:nvCxnSpPr>
        <p:spPr>
          <a:xfrm flipH="1" flipV="1">
            <a:off x="5617800" y="986760"/>
            <a:ext cx="78336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5" name="Rectangle 4"/>
          <p:cNvSpPr/>
          <p:nvPr/>
        </p:nvSpPr>
        <p:spPr>
          <a:xfrm>
            <a:off x="6168960" y="1576440"/>
            <a:ext cx="28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a single resulting scalar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9"/>
              <p:cNvSpPr txBox="1"/>
              <p:nvPr/>
            </p:nvSpPr>
            <p:spPr>
              <a:xfrm>
                <a:off x="3112920" y="2739960"/>
                <a:ext cx="15433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0,1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Oval 20"/>
          <p:cNvSpPr/>
          <p:nvPr/>
        </p:nvSpPr>
        <p:spPr>
          <a:xfrm>
            <a:off x="3429000" y="2795760"/>
            <a:ext cx="30492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1"/>
          <p:cNvCxnSpPr/>
          <p:nvPr/>
        </p:nvCxnSpPr>
        <p:spPr>
          <a:xfrm flipV="1">
            <a:off x="3303360" y="3131280"/>
            <a:ext cx="246600" cy="554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" name="Rectangle 4"/>
          <p:cNvSpPr/>
          <p:nvPr/>
        </p:nvSpPr>
        <p:spPr>
          <a:xfrm>
            <a:off x="2143440" y="365616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a single scalar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3943440" y="2816280"/>
            <a:ext cx="685800" cy="304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27"/>
          <p:cNvCxnSpPr/>
          <p:nvPr/>
        </p:nvCxnSpPr>
        <p:spPr>
          <a:xfrm flipH="1" flipV="1">
            <a:off x="4552200" y="3087000"/>
            <a:ext cx="152460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2" name="Rectangle 4"/>
          <p:cNvSpPr/>
          <p:nvPr/>
        </p:nvSpPr>
        <p:spPr>
          <a:xfrm>
            <a:off x="6063840" y="367668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an RGBA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7569360" y="64022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228600" y="63388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129720" y="64468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-194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Maximum intensity projection (MIP)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04920" y="838080"/>
            <a:ext cx="861048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First example of r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aximum scalar along ray, then apply transfer function to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ful to emphasize high-value points in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2133720" cy="559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152280" y="2962440"/>
            <a:ext cx="6108840" cy="33620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6312240" y="3857760"/>
            <a:ext cx="2788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MIP of human head 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te = low density (a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= high density (b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, but gives no depth c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2387880" cy="9144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228600" y="63388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-194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Average intensity projectio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409680" y="380880"/>
            <a:ext cx="706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Arial"/>
              </a:rPr>
              <a:t>Second example of r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 average scalar along ray, then map it to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ful to emphasize average tissue type (e.g. density in a CT 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145080" y="6396120"/>
            <a:ext cx="72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575d1"/>
                </a:solidFill>
                <a:latin typeface="Arial"/>
              </a:rPr>
              <a:t>Diffusion tensor: measured by a technique called </a:t>
            </a:r>
            <a:r>
              <a:rPr b="1" lang="en-US" sz="1200" spc="-1" strike="noStrike">
                <a:solidFill>
                  <a:srgbClr val="7575d1"/>
                </a:solidFill>
                <a:latin typeface="Arial"/>
              </a:rPr>
              <a:t>DT-MRI </a:t>
            </a:r>
            <a:r>
              <a:rPr b="0" lang="en-US" sz="1200" spc="-1" strike="noStrike">
                <a:solidFill>
                  <a:srgbClr val="7575d1"/>
                </a:solidFill>
                <a:latin typeface="Arial"/>
              </a:rPr>
              <a:t>(diffusion tensor magnetic resonance imag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3352680" y="2590920"/>
            <a:ext cx="2859120" cy="320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380880" y="2590920"/>
            <a:ext cx="2845080" cy="31845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428400" y="583416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  <a:ea typeface="Arial"/>
              </a:rPr>
              <a:t>maximum intensity pro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479760" y="5824440"/>
            <a:ext cx="26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  <a:ea typeface="Arial"/>
              </a:rPr>
              <a:t>average intensity pro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6419880" y="3048120"/>
            <a:ext cx="2684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Human torso 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= low density (a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te = high density (b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intensity proje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an X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3:22:49Z</dcterms:created>
  <dc:creator>Ozan</dc:creator>
  <dc:description/>
  <dc:language>en-US</dc:language>
  <cp:lastModifiedBy>Alex Telea</cp:lastModifiedBy>
  <dcterms:modified xsi:type="dcterms:W3CDTF">2015-01-19T11:51:54Z</dcterms:modified>
  <cp:revision>512</cp:revision>
  <dc:subject/>
  <dc:title>Image-Based Edge Bundles: Simplified Visualization of Large Graphs  A. Telea and O. Ersoy </dc:title>
</cp:coreProperties>
</file>